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3000" cy="492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86760" rIns="867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49480" y="9429480"/>
            <a:ext cx="2943000" cy="492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6560"/>
                <a:tab algn="l" pos="936720"/>
                <a:tab algn="l" pos="1406520"/>
                <a:tab algn="l" pos="1874880"/>
                <a:tab algn="l" pos="2346480"/>
                <a:tab algn="l" pos="2814480"/>
                <a:tab algn="l" pos="3284640"/>
                <a:tab algn="l" pos="3753000"/>
                <a:tab algn="l" pos="4222800"/>
                <a:tab algn="l" pos="4692600"/>
                <a:tab algn="l" pos="5162400"/>
                <a:tab algn="l" pos="5630760"/>
                <a:tab algn="l" pos="6100920"/>
                <a:tab algn="l" pos="6570720"/>
                <a:tab algn="l" pos="7040520"/>
                <a:tab algn="l" pos="7510320"/>
                <a:tab algn="l" pos="7978680"/>
                <a:tab algn="l" pos="8448840"/>
                <a:tab algn="l" pos="8918640"/>
                <a:tab algn="l" pos="9388440"/>
                <a:tab algn="l" pos="9398160"/>
                <a:tab algn="l" pos="9867960"/>
                <a:tab algn="l" pos="10337760"/>
                <a:tab algn="l" pos="10807560"/>
              </a:tabLst>
              <a:defRPr b="0" lang="pt-BR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6560"/>
                <a:tab algn="l" pos="936720"/>
                <a:tab algn="l" pos="1406520"/>
                <a:tab algn="l" pos="1874880"/>
                <a:tab algn="l" pos="2346480"/>
                <a:tab algn="l" pos="2814480"/>
                <a:tab algn="l" pos="3284640"/>
                <a:tab algn="l" pos="3753000"/>
                <a:tab algn="l" pos="4222800"/>
                <a:tab algn="l" pos="4692600"/>
                <a:tab algn="l" pos="5162400"/>
                <a:tab algn="l" pos="5630760"/>
                <a:tab algn="l" pos="6100920"/>
                <a:tab algn="l" pos="6570720"/>
                <a:tab algn="l" pos="7040520"/>
                <a:tab algn="l" pos="7510320"/>
                <a:tab algn="l" pos="7978680"/>
                <a:tab algn="l" pos="8448840"/>
                <a:tab algn="l" pos="8918640"/>
                <a:tab algn="l" pos="9388440"/>
                <a:tab algn="l" pos="9398160"/>
                <a:tab algn="l" pos="9867960"/>
                <a:tab algn="l" pos="10337760"/>
                <a:tab algn="l" pos="10807560"/>
              </a:tabLst>
            </a:pPr>
            <a:fld id="{ACB9862D-9C5A-4629-AA2A-7F19E801323A}" type="slidenum">
              <a:rPr b="0" lang="pt-BR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84720" y="10159920"/>
            <a:ext cx="328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3320"/>
                <a:tab algn="l" pos="289728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fld id="{8D1C83F0-3222-4005-8D48-01F240BE165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0" y="-962280"/>
            <a:ext cx="144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9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7"/>
          <p:cNvSpPr/>
          <p:nvPr/>
        </p:nvSpPr>
        <p:spPr>
          <a:xfrm>
            <a:off x="3849840" y="942984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6560"/>
                <a:tab algn="l" pos="936720"/>
                <a:tab algn="l" pos="1406520"/>
                <a:tab algn="l" pos="1874880"/>
                <a:tab algn="l" pos="2346480"/>
                <a:tab algn="l" pos="2814480"/>
                <a:tab algn="l" pos="3284640"/>
                <a:tab algn="l" pos="3753000"/>
                <a:tab algn="l" pos="4222800"/>
                <a:tab algn="l" pos="4692600"/>
                <a:tab algn="l" pos="5162400"/>
                <a:tab algn="l" pos="5630760"/>
                <a:tab algn="l" pos="6100920"/>
                <a:tab algn="l" pos="6570720"/>
                <a:tab algn="l" pos="7040520"/>
                <a:tab algn="l" pos="7510320"/>
                <a:tab algn="l" pos="7978680"/>
                <a:tab algn="l" pos="8448840"/>
                <a:tab algn="l" pos="8918640"/>
                <a:tab algn="l" pos="9388440"/>
                <a:tab algn="l" pos="9398160"/>
                <a:tab algn="l" pos="9867960"/>
                <a:tab algn="l" pos="10337760"/>
                <a:tab algn="l" pos="10807560"/>
              </a:tabLst>
            </a:pPr>
            <a:fld id="{D95EC2C1-04A9-4781-8937-BCC72ACA6B70}" type="slidenum">
              <a:rPr b="0" lang="en-GB" sz="1300" spc="-1" strike="noStrike">
                <a:solidFill>
                  <a:srgbClr val="898989"/>
                </a:solidFill>
                <a:latin typeface="Arial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3849840" y="9429840"/>
            <a:ext cx="2938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6560"/>
                <a:tab algn="l" pos="936720"/>
                <a:tab algn="l" pos="1405080"/>
                <a:tab algn="l" pos="1874880"/>
                <a:tab algn="l" pos="2344680"/>
                <a:tab algn="l" pos="2814480"/>
                <a:tab algn="l" pos="3282840"/>
                <a:tab algn="l" pos="3753000"/>
                <a:tab algn="l" pos="4221000"/>
                <a:tab algn="l" pos="4692600"/>
                <a:tab algn="l" pos="5160960"/>
                <a:tab algn="l" pos="5630760"/>
                <a:tab algn="l" pos="6100920"/>
                <a:tab algn="l" pos="6568920"/>
                <a:tab algn="l" pos="7040520"/>
                <a:tab algn="l" pos="7508880"/>
                <a:tab algn="l" pos="7978680"/>
                <a:tab algn="l" pos="8447040"/>
                <a:tab algn="l" pos="8918640"/>
                <a:tab algn="l" pos="9387000"/>
                <a:tab algn="l" pos="9434520"/>
                <a:tab algn="l" pos="9883800"/>
                <a:tab algn="l" pos="10333080"/>
                <a:tab algn="l" pos="10782360"/>
              </a:tabLst>
            </a:pPr>
            <a:fld id="{1AE4199A-61E3-4E8B-84EC-A7A38833F6A1}" type="slidenum">
              <a:rPr b="0" lang="en-GB" sz="1300" spc="-1" strike="noStrike">
                <a:solidFill>
                  <a:srgbClr val="000000"/>
                </a:solidFill>
                <a:latin typeface="Tahom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849840" y="9429840"/>
            <a:ext cx="2919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66560"/>
                <a:tab algn="l" pos="936720"/>
                <a:tab algn="l" pos="1405080"/>
                <a:tab algn="l" pos="1874880"/>
                <a:tab algn="l" pos="2344680"/>
                <a:tab algn="l" pos="2814480"/>
                <a:tab algn="l" pos="3282840"/>
                <a:tab algn="l" pos="3753000"/>
                <a:tab algn="l" pos="4221000"/>
                <a:tab algn="l" pos="4692600"/>
                <a:tab algn="l" pos="5160960"/>
                <a:tab algn="l" pos="5630760"/>
                <a:tab algn="l" pos="6100920"/>
                <a:tab algn="l" pos="6568920"/>
                <a:tab algn="l" pos="7040520"/>
                <a:tab algn="l" pos="7508880"/>
                <a:tab algn="l" pos="7978680"/>
                <a:tab algn="l" pos="8447040"/>
                <a:tab algn="l" pos="8918640"/>
                <a:tab algn="l" pos="9387000"/>
                <a:tab algn="l" pos="9434520"/>
                <a:tab algn="l" pos="9883800"/>
                <a:tab algn="l" pos="10333080"/>
                <a:tab algn="l" pos="10782360"/>
              </a:tabLst>
            </a:pPr>
            <a:fld id="{F4B334ED-8A1F-4F31-8927-5E7E452DADC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49840" y="9429840"/>
            <a:ext cx="2920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66560"/>
                <a:tab algn="l" pos="936720"/>
                <a:tab algn="l" pos="1405080"/>
                <a:tab algn="l" pos="1874880"/>
                <a:tab algn="l" pos="2344680"/>
                <a:tab algn="l" pos="2814480"/>
                <a:tab algn="l" pos="3282840"/>
                <a:tab algn="l" pos="3753000"/>
                <a:tab algn="l" pos="4221000"/>
                <a:tab algn="l" pos="4692600"/>
                <a:tab algn="l" pos="5160960"/>
                <a:tab algn="l" pos="5630760"/>
                <a:tab algn="l" pos="6100920"/>
                <a:tab algn="l" pos="6568920"/>
                <a:tab algn="l" pos="7040520"/>
                <a:tab algn="l" pos="7508880"/>
                <a:tab algn="l" pos="7978680"/>
                <a:tab algn="l" pos="8447040"/>
                <a:tab algn="l" pos="8918640"/>
                <a:tab algn="l" pos="9387000"/>
                <a:tab algn="l" pos="9434520"/>
                <a:tab algn="l" pos="9883800"/>
                <a:tab algn="l" pos="10333080"/>
                <a:tab algn="l" pos="10782360"/>
              </a:tabLst>
            </a:pPr>
            <a:fld id="{6688BC5A-2278-44B4-811C-771B9CD0041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66880" y="800280"/>
            <a:ext cx="48704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913857-84C7-462F-9C6D-EC2E697F9C6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FDB3D9-AA73-4C82-89B9-AF9F9643410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A13852-7C7D-4B4E-BB8B-6B64474739F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1495-F3F5-4FF4-B802-E8DFA9BC8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E9DF-35B5-4F92-8447-91B798D4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FCFA-1FDD-4861-888F-E0B33134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2B67-FD5A-49A7-AB99-79916D256A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BDD6-7484-4631-930D-FE33EFD8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50B1-279D-478E-865D-EAFC08DA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84BC-AD9E-4DEC-9ECD-521FC11D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C135-E789-4118-8D95-7B50FC11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11E2-1A7A-4887-87CF-8EB29AFC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2C79-D108-4676-8B1B-3359F29D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04C4-D652-4982-AACA-9D39FD91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1A16-4F37-444D-BB44-352F2007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0BE0F-02AD-40F5-80B8-EB8CB39865CE}" type="datetime"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F24F0-E0E2-4B44-AF40-BF46B1699182}" type="slidenum"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6.png"/><Relationship Id="rId7" Type="http://schemas.openxmlformats.org/officeDocument/2006/relationships/image" Target="../media/image22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http://concursosprevistos.com/wp-content/uploads/2010/04/concurso-inss-2010.jpg"/>
          <p:cNvPicPr/>
          <p:nvPr/>
        </p:nvPicPr>
        <p:blipFill>
          <a:blip r:embed="rId1"/>
          <a:stretch/>
        </p:blipFill>
        <p:spPr>
          <a:xfrm>
            <a:off x="7359480" y="890640"/>
            <a:ext cx="1657440" cy="117792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80"/>
          <p:cNvSpPr/>
          <p:nvPr/>
        </p:nvSpPr>
        <p:spPr>
          <a:xfrm>
            <a:off x="250920" y="2052720"/>
            <a:ext cx="8591400" cy="2098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  <a:ea typeface="SimSun"/>
              </a:rPr>
              <a:t>RECONHECIMENTO DO DIREITO AO BENEFÍCIO POR INCAPAC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796000" y="6265800"/>
            <a:ext cx="3154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Tahoma"/>
                <a:ea typeface="SimSun"/>
              </a:rPr>
              <a:t>Julho de 2015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356000" y="4869000"/>
            <a:ext cx="442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50880"/>
                <a:tab algn="l" pos="1301760"/>
                <a:tab algn="l" pos="1952640"/>
                <a:tab algn="l" pos="2604960"/>
                <a:tab algn="l" pos="325584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  <a:tab algn="l" pos="8467560"/>
                <a:tab algn="l" pos="887112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217ª Reunião do  CN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87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8" name="CaixaDeTexto 6"/>
          <p:cNvSpPr/>
          <p:nvPr/>
        </p:nvSpPr>
        <p:spPr>
          <a:xfrm>
            <a:off x="6084720" y="6453360"/>
            <a:ext cx="273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900" spc="-1" strike="noStrike">
                <a:solidFill>
                  <a:srgbClr val="000000"/>
                </a:solidFill>
                <a:latin typeface="Tahoma"/>
                <a:ea typeface="Tahoma"/>
              </a:rPr>
              <a:t>FONTE:Folha SIAP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tângulo 8"/>
          <p:cNvSpPr/>
          <p:nvPr/>
        </p:nvSpPr>
        <p:spPr>
          <a:xfrm>
            <a:off x="684360" y="62064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Gráfico 5" descr=""/>
          <p:cNvPicPr/>
          <p:nvPr/>
        </p:nvPicPr>
        <p:blipFill>
          <a:blip r:embed="rId3"/>
          <a:stretch/>
        </p:blipFill>
        <p:spPr>
          <a:xfrm>
            <a:off x="203040" y="1125360"/>
            <a:ext cx="8761680" cy="5307120"/>
          </a:xfrm>
          <a:prstGeom prst="rect">
            <a:avLst/>
          </a:prstGeom>
          <a:ln w="0">
            <a:noFill/>
          </a:ln>
        </p:spPr>
      </p:pic>
      <p:sp>
        <p:nvSpPr>
          <p:cNvPr id="91" name="Retângulo 9"/>
          <p:cNvSpPr/>
          <p:nvPr/>
        </p:nvSpPr>
        <p:spPr>
          <a:xfrm>
            <a:off x="2225880" y="62064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Tahoma"/>
                <a:ea typeface="Tahoma"/>
              </a:rPr>
              <a:t>BRASIL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Tahoma"/>
                <a:ea typeface="Tahoma"/>
              </a:rPr>
              <a:t>EVOLUÇÃO DO QUADRO DE PERI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4" descr="roda1.jpg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3" name="CaixaDeTexto 7"/>
          <p:cNvSpPr/>
          <p:nvPr/>
        </p:nvSpPr>
        <p:spPr>
          <a:xfrm>
            <a:off x="755640" y="6093000"/>
            <a:ext cx="75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APS sem peritos em Maio/201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Fonte:SIGMA e Siap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4720" y="1700280"/>
          <a:ext cx="8388360" cy="3889440"/>
        </p:xfrm>
        <a:graphic>
          <a:graphicData uri="http://schemas.openxmlformats.org/drawingml/2006/table">
            <a:tbl>
              <a:tblPr/>
              <a:tblGrid>
                <a:gridCol w="5000760"/>
                <a:gridCol w="1371600"/>
                <a:gridCol w="2016000"/>
              </a:tblGrid>
              <a:tr h="1204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PS sem Per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% interna de APS sem Peritos em cada 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 SUDEST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 SUDESTE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 S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 NOR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 NORTE/CENTRO-O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tângulo 8"/>
          <p:cNvSpPr/>
          <p:nvPr/>
        </p:nvSpPr>
        <p:spPr>
          <a:xfrm>
            <a:off x="179280" y="549360"/>
            <a:ext cx="871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Tahoma"/>
                <a:ea typeface="Tahoma"/>
              </a:rPr>
              <a:t>Total de APS: 1.5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Tahoma"/>
                <a:ea typeface="Tahoma"/>
              </a:rPr>
              <a:t>APS Sem Peritos: 4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7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179280" y="1268280"/>
          <a:ext cx="8820360" cy="4969080"/>
        </p:xfrm>
        <a:graphic>
          <a:graphicData uri="http://schemas.openxmlformats.org/drawingml/2006/table">
            <a:tbl>
              <a:tblPr/>
              <a:tblGrid>
                <a:gridCol w="1594080"/>
                <a:gridCol w="1392120"/>
                <a:gridCol w="3143160"/>
                <a:gridCol w="2691000"/>
              </a:tblGrid>
              <a:tr h="107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Í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Grande do S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/01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ção INSS Nº 278 de 21/03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ção com BI acima de 45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ná (Gex Lond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/02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ção INSS Nº 302 de 21/05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ção com BI acima de 45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a Cata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/12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ção INSS Nº 387 de 13/02/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ção INSS Nº 280  de  01/04/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ção com BI acima de 45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enciamento de Méd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EA-PM superior a 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0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ndônia  (Gex Porto Velh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/06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ção INSS Nº 326 de 06/08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ção com BI acima de 30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0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anhão (Gex Imperati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/02/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ção INSS Nº 380 de 22/01/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ção com BI acima de 45 d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9" name="CaixaDeTexto 2"/>
          <p:cNvSpPr/>
          <p:nvPr/>
        </p:nvSpPr>
        <p:spPr>
          <a:xfrm>
            <a:off x="1089000" y="5936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UNIDADES COM AC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0800" y="476280"/>
            <a:ext cx="8683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Recepção AX1 por ACP </a:t>
            </a:r>
            <a:br>
              <a:rPr sz="40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equênci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360" y="170172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Vantagen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- Diminuição do TMEA – 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esvantagen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mpossibilidade de marcar as datas técnicas DII e DID pelo per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ossibilidade de gerar PP, sem fase específica de AC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mpossibilidade de alterar as datas fix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ossibilidade ilimitada de Ax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garante a isenção de carênc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recepciona o AT e a D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rnece benefício para segurado que teve negativa em perícia méd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4" descr="roda1.jpg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17"/>
          <p:cNvSpPr/>
          <p:nvPr/>
        </p:nvSpPr>
        <p:spPr>
          <a:xfrm>
            <a:off x="684360" y="142920"/>
            <a:ext cx="7920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66"/>
                </a:solidFill>
                <a:latin typeface="Arial Black"/>
              </a:rPr>
              <a:t>Conclusão da perícia médica – por F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585720"/>
          <a:ext cx="9144000" cy="6004080"/>
        </p:xfrm>
        <a:graphic>
          <a:graphicData uri="http://schemas.openxmlformats.org/drawingml/2006/table">
            <a:tbl>
              <a:tblPr/>
              <a:tblGrid>
                <a:gridCol w="3159000"/>
                <a:gridCol w="1197000"/>
                <a:gridCol w="1195560"/>
                <a:gridCol w="1198440"/>
                <a:gridCol w="1197000"/>
                <a:gridCol w="1197000"/>
              </a:tblGrid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CENT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á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</a:tr>
              <a:tr h="441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vorável - Data de Cessacao do Benef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vorável - Data de Comprovacao da Incapac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CENT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á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</a:tr>
              <a:tr h="441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vorável - Data de Cessacao do Benef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vorável - Data de Comprovacao da Incapac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CENT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á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b05"/>
                    </a:solidFill>
                  </a:tcPr>
                </a:tc>
              </a:tr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vorável - Data de Cessacao do Benef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vorável - Data de Comprovacao da Incapac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CaixaDeTexto 7"/>
          <p:cNvSpPr/>
          <p:nvPr/>
        </p:nvSpPr>
        <p:spPr>
          <a:xfrm>
            <a:off x="7920000" y="6642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" spc="-1" strike="noStrike">
                <a:solidFill>
                  <a:srgbClr val="000000"/>
                </a:solidFill>
                <a:latin typeface="Arial"/>
              </a:rPr>
              <a:t>Fonte:SUIB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0" y="1916280"/>
            <a:ext cx="1425600" cy="16570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upo 90"/>
          <p:cNvGrpSpPr/>
          <p:nvPr/>
        </p:nvGrpSpPr>
        <p:grpSpPr>
          <a:xfrm>
            <a:off x="1403280" y="3789360"/>
            <a:ext cx="1944720" cy="1584360"/>
            <a:chOff x="1403280" y="3789360"/>
            <a:chExt cx="1944720" cy="1584360"/>
          </a:xfrm>
        </p:grpSpPr>
        <p:grpSp>
          <p:nvGrpSpPr>
            <p:cNvPr id="110" name="Group 21"/>
            <p:cNvGrpSpPr/>
            <p:nvPr/>
          </p:nvGrpSpPr>
          <p:grpSpPr>
            <a:xfrm>
              <a:off x="1403280" y="3789360"/>
              <a:ext cx="1944720" cy="1320120"/>
              <a:chOff x="1403280" y="3789360"/>
              <a:chExt cx="1944720" cy="1320120"/>
            </a:xfrm>
          </p:grpSpPr>
          <p:pic>
            <p:nvPicPr>
              <p:cNvPr id="111" name="Pictur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03240" y="3789360"/>
                <a:ext cx="1125720" cy="98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Rectangle 23"/>
              <p:cNvSpPr/>
              <p:nvPr/>
            </p:nvSpPr>
            <p:spPr>
              <a:xfrm>
                <a:off x="1403280" y="4779360"/>
                <a:ext cx="19447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03200"/>
                    <a:tab algn="l" pos="806400"/>
                    <a:tab algn="l" pos="1209600"/>
                    <a:tab algn="l" pos="1612800"/>
                    <a:tab algn="l" pos="2016000"/>
                    <a:tab algn="l" pos="2419200"/>
                    <a:tab algn="l" pos="2822400"/>
                    <a:tab algn="l" pos="3225960"/>
                    <a:tab algn="l" pos="3629160"/>
                    <a:tab algn="l" pos="4032360"/>
                    <a:tab algn="l" pos="4435560"/>
                    <a:tab algn="l" pos="4838760"/>
                    <a:tab algn="l" pos="5241960"/>
                    <a:tab algn="l" pos="5645160"/>
                    <a:tab algn="l" pos="6048360"/>
                    <a:tab algn="l" pos="6451560"/>
                    <a:tab algn="l" pos="6854760"/>
                    <a:tab algn="l" pos="7257960"/>
                    <a:tab algn="l" pos="7661160"/>
                    <a:tab algn="l" pos="8064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" name="Retângulo de cantos arredondados 32"/>
            <p:cNvSpPr/>
            <p:nvPr/>
          </p:nvSpPr>
          <p:spPr>
            <a:xfrm>
              <a:off x="1691280" y="4780080"/>
              <a:ext cx="1368360" cy="5936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  <a:tab algn="l" pos="8467560"/>
                  <a:tab algn="l" pos="8871120"/>
                  <a:tab algn="l" pos="927432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certo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  <a:tab algn="l" pos="8467560"/>
                  <a:tab algn="l" pos="8871120"/>
                  <a:tab algn="l" pos="927432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adastr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Seta para a direita 34"/>
          <p:cNvSpPr/>
          <p:nvPr/>
        </p:nvSpPr>
        <p:spPr>
          <a:xfrm>
            <a:off x="1763640" y="1938240"/>
            <a:ext cx="258840" cy="777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" name="Grupo 57"/>
          <p:cNvGrpSpPr/>
          <p:nvPr/>
        </p:nvGrpSpPr>
        <p:grpSpPr>
          <a:xfrm>
            <a:off x="2050920" y="1916280"/>
            <a:ext cx="1814760" cy="1152360"/>
            <a:chOff x="2050920" y="1916280"/>
            <a:chExt cx="1814760" cy="1152360"/>
          </a:xfrm>
        </p:grpSpPr>
        <p:grpSp>
          <p:nvGrpSpPr>
            <p:cNvPr id="116" name="Grupo 44"/>
            <p:cNvGrpSpPr/>
            <p:nvPr/>
          </p:nvGrpSpPr>
          <p:grpSpPr>
            <a:xfrm>
              <a:off x="2050920" y="1916280"/>
              <a:ext cx="943200" cy="1152360"/>
              <a:chOff x="2050920" y="1916280"/>
              <a:chExt cx="943200" cy="1152360"/>
            </a:xfrm>
          </p:grpSpPr>
          <p:sp>
            <p:nvSpPr>
              <p:cNvPr id="117" name="Rectangle 2"/>
              <p:cNvSpPr/>
              <p:nvPr/>
            </p:nvSpPr>
            <p:spPr>
              <a:xfrm>
                <a:off x="2122200" y="2695680"/>
                <a:ext cx="7009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000" rIns="81000" tIns="40680" bIns="4068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3200"/>
                    <a:tab algn="l" pos="806400"/>
                    <a:tab algn="l" pos="1209600"/>
                    <a:tab algn="l" pos="1612800"/>
                    <a:tab algn="l" pos="2016000"/>
                    <a:tab algn="l" pos="2419200"/>
                    <a:tab algn="l" pos="2822400"/>
                    <a:tab algn="l" pos="3225960"/>
                    <a:tab algn="l" pos="3629160"/>
                    <a:tab algn="l" pos="4032360"/>
                    <a:tab algn="l" pos="4435560"/>
                    <a:tab algn="l" pos="4838760"/>
                    <a:tab algn="l" pos="5241960"/>
                    <a:tab algn="l" pos="5645160"/>
                    <a:tab algn="l" pos="6048360"/>
                    <a:tab algn="l" pos="6451560"/>
                    <a:tab algn="l" pos="6854760"/>
                    <a:tab algn="l" pos="7257960"/>
                    <a:tab algn="l" pos="7661160"/>
                    <a:tab algn="l" pos="806436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135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18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0920" y="1916280"/>
                <a:ext cx="943200" cy="819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9" name="Picture 38" descr="https://encrypted-tbn2.gstatic.com/images?q=tbn:ANd9GcTTcj9JjNi06y4v8gRcsmEb4hVDN9mkWe5oQs1QaOm6Qbom3oOYFQ"/>
            <p:cNvPicPr/>
            <p:nvPr/>
          </p:nvPicPr>
          <p:blipFill>
            <a:blip r:embed="rId4"/>
            <a:stretch/>
          </p:blipFill>
          <p:spPr>
            <a:xfrm>
              <a:off x="2937960" y="2004840"/>
              <a:ext cx="927720" cy="77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upo 42"/>
          <p:cNvGrpSpPr/>
          <p:nvPr/>
        </p:nvGrpSpPr>
        <p:grpSpPr>
          <a:xfrm>
            <a:off x="5219640" y="2924280"/>
            <a:ext cx="3924360" cy="2784240"/>
            <a:chOff x="5219640" y="2924280"/>
            <a:chExt cx="3924360" cy="2784240"/>
          </a:xfrm>
        </p:grpSpPr>
        <p:grpSp>
          <p:nvGrpSpPr>
            <p:cNvPr id="121" name="Grupo 85"/>
            <p:cNvGrpSpPr/>
            <p:nvPr/>
          </p:nvGrpSpPr>
          <p:grpSpPr>
            <a:xfrm>
              <a:off x="5219640" y="2924280"/>
              <a:ext cx="2608200" cy="2784240"/>
              <a:chOff x="5219640" y="2924280"/>
              <a:chExt cx="2608200" cy="2784240"/>
            </a:xfrm>
          </p:grpSpPr>
          <p:pic>
            <p:nvPicPr>
              <p:cNvPr id="122" name="Diagrama 49" descr=""/>
              <p:cNvPicPr/>
              <p:nvPr/>
            </p:nvPicPr>
            <p:blipFill>
              <a:blip r:embed="rId5"/>
              <a:stretch/>
            </p:blipFill>
            <p:spPr>
              <a:xfrm>
                <a:off x="5324400" y="2924280"/>
                <a:ext cx="2503440" cy="27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Conector reto 61"/>
              <p:cNvSpPr/>
              <p:nvPr/>
            </p:nvSpPr>
            <p:spPr>
              <a:xfrm>
                <a:off x="5219640" y="3023640"/>
                <a:ext cx="0" cy="251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24" name="Grupo 84"/>
              <p:cNvGrpSpPr/>
              <p:nvPr/>
            </p:nvGrpSpPr>
            <p:grpSpPr>
              <a:xfrm>
                <a:off x="5219640" y="3238920"/>
                <a:ext cx="160560" cy="2011320"/>
                <a:chOff x="5219640" y="3238920"/>
                <a:chExt cx="160560" cy="2011320"/>
              </a:xfrm>
            </p:grpSpPr>
            <p:sp>
              <p:nvSpPr>
                <p:cNvPr id="125" name="Conector reto 71"/>
                <p:cNvSpPr/>
                <p:nvPr/>
              </p:nvSpPr>
              <p:spPr>
                <a:xfrm>
                  <a:off x="5219640" y="3238920"/>
                  <a:ext cx="160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Conector reto 72"/>
                <p:cNvSpPr/>
                <p:nvPr/>
              </p:nvSpPr>
              <p:spPr>
                <a:xfrm>
                  <a:off x="5219640" y="3885480"/>
                  <a:ext cx="160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Conector reto 81"/>
                <p:cNvSpPr/>
                <p:nvPr/>
              </p:nvSpPr>
              <p:spPr>
                <a:xfrm>
                  <a:off x="5219640" y="4603680"/>
                  <a:ext cx="160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Conector reto 83"/>
                <p:cNvSpPr/>
                <p:nvPr/>
              </p:nvSpPr>
              <p:spPr>
                <a:xfrm>
                  <a:off x="5219640" y="5250240"/>
                  <a:ext cx="160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9" name="Grupo 88"/>
            <p:cNvGrpSpPr/>
            <p:nvPr/>
          </p:nvGrpSpPr>
          <p:grpSpPr>
            <a:xfrm>
              <a:off x="8060760" y="3819600"/>
              <a:ext cx="1083240" cy="1071720"/>
              <a:chOff x="8060760" y="3819600"/>
              <a:chExt cx="1083240" cy="1071720"/>
            </a:xfrm>
          </p:grpSpPr>
          <p:pic>
            <p:nvPicPr>
              <p:cNvPr id="130" name="Picture 37" descr="D:\Samara Douets\DIRSAT-INSS\IMAGENS DIRSAT\inss.jpg"/>
              <p:cNvPicPr/>
              <p:nvPr/>
            </p:nvPicPr>
            <p:blipFill>
              <a:blip r:embed="rId6"/>
              <a:srcRect l="15722" t="0" r="11527" b="17331"/>
              <a:stretch/>
            </p:blipFill>
            <p:spPr>
              <a:xfrm>
                <a:off x="8060760" y="3819600"/>
                <a:ext cx="108324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CaixaDeTexto 87"/>
              <p:cNvSpPr/>
              <p:nvPr/>
            </p:nvSpPr>
            <p:spPr>
              <a:xfrm>
                <a:off x="8389080" y="4595760"/>
                <a:ext cx="3834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040" bIns="41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03200"/>
                    <a:tab algn="l" pos="806400"/>
                    <a:tab algn="l" pos="1209600"/>
                    <a:tab algn="l" pos="1612800"/>
                    <a:tab algn="l" pos="2016000"/>
                    <a:tab algn="l" pos="2419200"/>
                    <a:tab algn="l" pos="2822400"/>
                    <a:tab algn="l" pos="3225960"/>
                    <a:tab algn="l" pos="3629160"/>
                    <a:tab algn="l" pos="4032360"/>
                    <a:tab algn="l" pos="4435560"/>
                    <a:tab algn="l" pos="4838760"/>
                    <a:tab algn="l" pos="5241960"/>
                    <a:tab algn="l" pos="5645160"/>
                    <a:tab algn="l" pos="6048360"/>
                    <a:tab algn="l" pos="6451560"/>
                    <a:tab algn="l" pos="6854760"/>
                    <a:tab algn="l" pos="7257960"/>
                    <a:tab algn="l" pos="7661160"/>
                    <a:tab algn="l" pos="806436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JR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" name="Grupo 46"/>
            <p:cNvGrpSpPr/>
            <p:nvPr/>
          </p:nvGrpSpPr>
          <p:grpSpPr>
            <a:xfrm>
              <a:off x="7790760" y="4936320"/>
              <a:ext cx="744480" cy="522720"/>
              <a:chOff x="7790760" y="4936320"/>
              <a:chExt cx="744480" cy="522720"/>
            </a:xfrm>
          </p:grpSpPr>
          <p:sp>
            <p:nvSpPr>
              <p:cNvPr id="133" name="Conector reto 41"/>
              <p:cNvSpPr/>
              <p:nvPr/>
            </p:nvSpPr>
            <p:spPr>
              <a:xfrm>
                <a:off x="7790760" y="5459040"/>
                <a:ext cx="74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Conector reto 45"/>
              <p:cNvSpPr/>
              <p:nvPr/>
            </p:nvSpPr>
            <p:spPr>
              <a:xfrm flipV="1">
                <a:off x="8535240" y="4936320"/>
                <a:ext cx="0" cy="52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35" name="Grupo 39"/>
          <p:cNvGrpSpPr/>
          <p:nvPr/>
        </p:nvGrpSpPr>
        <p:grpSpPr>
          <a:xfrm>
            <a:off x="3419640" y="2924280"/>
            <a:ext cx="1728720" cy="2305080"/>
            <a:chOff x="3419640" y="2924280"/>
            <a:chExt cx="1728720" cy="2305080"/>
          </a:xfrm>
        </p:grpSpPr>
        <p:sp>
          <p:nvSpPr>
            <p:cNvPr id="136" name="Retângulo de cantos arredondados 40"/>
            <p:cNvSpPr/>
            <p:nvPr/>
          </p:nvSpPr>
          <p:spPr>
            <a:xfrm>
              <a:off x="3419640" y="4438800"/>
              <a:ext cx="1542960" cy="79056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03200"/>
                  <a:tab algn="l" pos="806400"/>
                  <a:tab algn="l" pos="120960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erito Médic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03200"/>
                  <a:tab algn="l" pos="806400"/>
                  <a:tab algn="l" pos="120960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evidenciári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7" name="Picture 4" descr="C:\Users\samara.dias\AppData\Local\Microsoft\Windows\Temporary Internet Files\Content.IE5\EYHUKWCB\MC900433937[1].png"/>
            <p:cNvPicPr/>
            <p:nvPr/>
          </p:nvPicPr>
          <p:blipFill>
            <a:blip r:embed="rId7"/>
            <a:stretch/>
          </p:blipFill>
          <p:spPr>
            <a:xfrm>
              <a:off x="3419640" y="2924280"/>
              <a:ext cx="1728720" cy="14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CaixaDeTexto 44"/>
          <p:cNvSpPr/>
          <p:nvPr/>
        </p:nvSpPr>
        <p:spPr>
          <a:xfrm>
            <a:off x="7775280" y="6622920"/>
            <a:ext cx="13582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SimSun"/>
              </a:rPr>
              <a:t>DIRSAT/INSS - 201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-30240" y="901800"/>
            <a:ext cx="9144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0880"/>
                <a:tab algn="l" pos="1301760"/>
                <a:tab algn="l" pos="1952640"/>
                <a:tab algn="l" pos="2604960"/>
                <a:tab algn="l" pos="3255840"/>
                <a:tab algn="l" pos="3908520"/>
                <a:tab algn="l" pos="4559400"/>
                <a:tab algn="l" pos="5210280"/>
                <a:tab algn="l" pos="5862600"/>
                <a:tab algn="l" pos="6513480"/>
                <a:tab algn="l" pos="7165800"/>
                <a:tab algn="l" pos="7816680"/>
                <a:tab algn="l" pos="8467560"/>
                <a:tab algn="l" pos="912024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r>
              <a:rPr b="1" lang="pt-BR" sz="2500" spc="-1" strike="noStrike">
                <a:solidFill>
                  <a:srgbClr val="002060"/>
                </a:solidFill>
                <a:latin typeface="Arial"/>
                <a:ea typeface="SimSun"/>
              </a:rPr>
              <a:t>AVALIAÇÃO da CAPACIDADE LABORATIV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0880"/>
                <a:tab algn="l" pos="1301760"/>
                <a:tab algn="l" pos="1952640"/>
                <a:tab algn="l" pos="2604960"/>
                <a:tab algn="l" pos="3255840"/>
                <a:tab algn="l" pos="3908520"/>
                <a:tab algn="l" pos="4559400"/>
                <a:tab algn="l" pos="5210280"/>
                <a:tab algn="l" pos="5862600"/>
                <a:tab algn="l" pos="6513480"/>
                <a:tab algn="l" pos="7165800"/>
                <a:tab algn="l" pos="7816680"/>
                <a:tab algn="l" pos="8467560"/>
                <a:tab algn="l" pos="9120240"/>
                <a:tab algn="l" pos="9274320"/>
                <a:tab algn="l" pos="9677520"/>
                <a:tab algn="l" pos="10080720"/>
                <a:tab algn="l" pos="10483920"/>
                <a:tab algn="l" pos="10887120"/>
              </a:tabLst>
            </a:pPr>
            <a:r>
              <a:rPr b="1" lang="pt-BR" sz="2500" spc="-1" strike="noStrike">
                <a:solidFill>
                  <a:srgbClr val="002060"/>
                </a:solidFill>
                <a:latin typeface="Arial"/>
                <a:ea typeface="SimSun"/>
              </a:rPr>
              <a:t>MODELO ATUAL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upo 38"/>
          <p:cNvGrpSpPr/>
          <p:nvPr/>
        </p:nvGrpSpPr>
        <p:grpSpPr>
          <a:xfrm>
            <a:off x="5421240" y="2260440"/>
            <a:ext cx="2463840" cy="584280"/>
            <a:chOff x="5421240" y="2260440"/>
            <a:chExt cx="2463840" cy="584280"/>
          </a:xfrm>
        </p:grpSpPr>
        <p:sp>
          <p:nvSpPr>
            <p:cNvPr id="141" name="CustomShape 1"/>
            <p:cNvSpPr/>
            <p:nvPr/>
          </p:nvSpPr>
          <p:spPr>
            <a:xfrm>
              <a:off x="5421240" y="2260440"/>
              <a:ext cx="2463840" cy="584280"/>
            </a:xfrm>
            <a:prstGeom prst="roundRect">
              <a:avLst>
                <a:gd name="adj" fmla="val 10000"/>
              </a:avLst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9560" rIns="45720" anchor="ctr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 </a:t>
              </a:r>
              <a:r>
                <a:rPr b="0" lang="pt-BR" sz="1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BI Concedid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CustomShape 2"/>
            <p:cNvSpPr/>
            <p:nvPr/>
          </p:nvSpPr>
          <p:spPr>
            <a:xfrm>
              <a:off x="5504760" y="2332080"/>
              <a:ext cx="492120" cy="467640"/>
            </a:xfrm>
            <a:prstGeom prst="roundRect">
              <a:avLst>
                <a:gd name="adj" fmla="val 1000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Line 45"/>
          <p:cNvSpPr/>
          <p:nvPr/>
        </p:nvSpPr>
        <p:spPr>
          <a:xfrm>
            <a:off x="5219640" y="249228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46"/>
          <p:cNvSpPr/>
          <p:nvPr/>
        </p:nvSpPr>
        <p:spPr>
          <a:xfrm>
            <a:off x="5240160" y="2651040"/>
            <a:ext cx="1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eta para baixo 39"/>
          <p:cNvSpPr/>
          <p:nvPr/>
        </p:nvSpPr>
        <p:spPr>
          <a:xfrm rot="18490200">
            <a:off x="3116880" y="2796120"/>
            <a:ext cx="245880" cy="647640"/>
          </a:xfrm>
          <a:prstGeom prst="downArrow">
            <a:avLst>
              <a:gd name="adj1" fmla="val 50000"/>
              <a:gd name="adj2" fmla="val 13169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 vert="eaVer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7596360" y="566100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45"/>
          <p:cNvSpPr/>
          <p:nvPr/>
        </p:nvSpPr>
        <p:spPr>
          <a:xfrm>
            <a:off x="5791320" y="61801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JUDICIALIZ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eta para baixo 39"/>
          <p:cNvSpPr/>
          <p:nvPr/>
        </p:nvSpPr>
        <p:spPr>
          <a:xfrm>
            <a:off x="2309760" y="2997360"/>
            <a:ext cx="246240" cy="647640"/>
          </a:xfrm>
          <a:prstGeom prst="downArrow">
            <a:avLst>
              <a:gd name="adj1" fmla="val 50000"/>
              <a:gd name="adj2" fmla="val 131506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eta para baixo 39"/>
          <p:cNvSpPr/>
          <p:nvPr/>
        </p:nvSpPr>
        <p:spPr>
          <a:xfrm rot="16200000">
            <a:off x="3116880" y="3947400"/>
            <a:ext cx="246240" cy="504720"/>
          </a:xfrm>
          <a:prstGeom prst="downArrow">
            <a:avLst>
              <a:gd name="adj1" fmla="val 50000"/>
              <a:gd name="adj2" fmla="val 102485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 vert="eaVer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3288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rojetos  Reconhecimento do BI</a:t>
            </a:r>
            <a:br>
              <a:rPr sz="4000"/>
            </a:b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em andam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9640" y="2066760"/>
          <a:ext cx="8143920" cy="4245120"/>
        </p:xfrm>
        <a:graphic>
          <a:graphicData uri="http://schemas.openxmlformats.org/drawingml/2006/table">
            <a:tbl>
              <a:tblPr/>
              <a:tblGrid>
                <a:gridCol w="4643640"/>
                <a:gridCol w="3500280"/>
              </a:tblGrid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CIA DOCUMEN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o Rec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ciado em 22.04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ÇÃO DO 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o Rio de Janeiro e Aracaj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ciado em 11.05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05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OLHIMENTO COM TRIAGEM DA FILA DE ESPERA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o APS Taguatin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ciado em 20.03.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upo 38"/>
          <p:cNvGrpSpPr/>
          <p:nvPr/>
        </p:nvGrpSpPr>
        <p:grpSpPr>
          <a:xfrm>
            <a:off x="5796000" y="1773360"/>
            <a:ext cx="2124000" cy="585720"/>
            <a:chOff x="5796000" y="1773360"/>
            <a:chExt cx="2124000" cy="585720"/>
          </a:xfrm>
        </p:grpSpPr>
        <p:sp>
          <p:nvSpPr>
            <p:cNvPr id="153" name="CustomShape 1"/>
            <p:cNvSpPr/>
            <p:nvPr/>
          </p:nvSpPr>
          <p:spPr>
            <a:xfrm>
              <a:off x="5796000" y="1773360"/>
              <a:ext cx="2124000" cy="585720"/>
            </a:xfrm>
            <a:prstGeom prst="roundRect">
              <a:avLst>
                <a:gd name="adj" fmla="val 10000"/>
              </a:avLst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9560" rIns="45720" anchor="ctr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BI Mantid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CustomShape 2"/>
            <p:cNvSpPr/>
            <p:nvPr/>
          </p:nvSpPr>
          <p:spPr>
            <a:xfrm>
              <a:off x="5868000" y="1845000"/>
              <a:ext cx="424080" cy="468720"/>
            </a:xfrm>
            <a:custGeom>
              <a:avLst/>
              <a:gdLst>
                <a:gd name="textAreaLeft" fmla="*/ 12240 w 424080"/>
                <a:gd name="textAreaRight" fmla="*/ 411840 w 424080"/>
                <a:gd name="textAreaTop" fmla="*/ 12240 h 468720"/>
                <a:gd name="textAreaBottom" fmla="*/ 456480 h 468720"/>
              </a:gdLst>
              <a:ahLst/>
              <a:rect l="textAreaLeft" t="textAreaTop" r="textAreaRight" b="textAreaBottom"/>
              <a:pathLst>
                <a:path w="21600" h="23872">
                  <a:moveTo>
                    <a:pt x="2160" y="0"/>
                  </a:moveTo>
                  <a:arcTo wR="2160" hR="2160" stAng="16200000" swAng="-5400000"/>
                  <a:lnTo>
                    <a:pt x="0" y="21712"/>
                  </a:lnTo>
                  <a:arcTo wR="2160" hR="2160" stAng="10800000" swAng="-5400000"/>
                  <a:lnTo>
                    <a:pt x="19440" y="23872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upo 43"/>
          <p:cNvGrpSpPr/>
          <p:nvPr/>
        </p:nvGrpSpPr>
        <p:grpSpPr>
          <a:xfrm>
            <a:off x="5796000" y="3573360"/>
            <a:ext cx="2614680" cy="585720"/>
            <a:chOff x="5796000" y="3573360"/>
            <a:chExt cx="2614680" cy="585720"/>
          </a:xfrm>
        </p:grpSpPr>
        <p:sp>
          <p:nvSpPr>
            <p:cNvPr id="156" name="CustomShape 5"/>
            <p:cNvSpPr/>
            <p:nvPr/>
          </p:nvSpPr>
          <p:spPr>
            <a:xfrm>
              <a:off x="5796000" y="3573360"/>
              <a:ext cx="2614680" cy="585720"/>
            </a:xfrm>
            <a:prstGeom prst="roundRect">
              <a:avLst>
                <a:gd name="adj" fmla="val 10000"/>
              </a:avLst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9560" rIns="45720" anchor="ctr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posentadoria por Invalidez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CustomShape 6"/>
            <p:cNvSpPr/>
            <p:nvPr/>
          </p:nvSpPr>
          <p:spPr>
            <a:xfrm>
              <a:off x="5868000" y="3624480"/>
              <a:ext cx="431640" cy="468720"/>
            </a:xfrm>
            <a:custGeom>
              <a:avLst/>
              <a:gdLst>
                <a:gd name="textAreaLeft" fmla="*/ 12600 w 431640"/>
                <a:gd name="textAreaRight" fmla="*/ 419040 w 431640"/>
                <a:gd name="textAreaTop" fmla="*/ 12600 h 468720"/>
                <a:gd name="textAreaBottom" fmla="*/ 456120 h 468720"/>
              </a:gdLst>
              <a:ahLst/>
              <a:rect l="textAreaLeft" t="textAreaTop" r="textAreaRight" b="textAreaBottom"/>
              <a:pathLst>
                <a:path w="21600" h="23454">
                  <a:moveTo>
                    <a:pt x="2160" y="0"/>
                  </a:moveTo>
                  <a:arcTo wR="2160" hR="2160" stAng="16200000" swAng="-5400000"/>
                  <a:lnTo>
                    <a:pt x="0" y="21294"/>
                  </a:lnTo>
                  <a:arcTo wR="2160" hR="2160" stAng="10800000" swAng="-5400000"/>
                  <a:lnTo>
                    <a:pt x="19440" y="23454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Grupo 35"/>
          <p:cNvGrpSpPr/>
          <p:nvPr/>
        </p:nvGrpSpPr>
        <p:grpSpPr>
          <a:xfrm>
            <a:off x="324000" y="3141720"/>
            <a:ext cx="1969920" cy="433440"/>
            <a:chOff x="324000" y="3141720"/>
            <a:chExt cx="1969920" cy="433440"/>
          </a:xfrm>
        </p:grpSpPr>
        <p:pic>
          <p:nvPicPr>
            <p:cNvPr id="159" name="Retângulo de cantos arredondados 31" descr=""/>
            <p:cNvPicPr/>
            <p:nvPr/>
          </p:nvPicPr>
          <p:blipFill>
            <a:blip r:embed="rId3"/>
            <a:stretch/>
          </p:blipFill>
          <p:spPr>
            <a:xfrm>
              <a:off x="324000" y="3141720"/>
              <a:ext cx="19699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CustomShape 11"/>
            <p:cNvSpPr/>
            <p:nvPr/>
          </p:nvSpPr>
          <p:spPr>
            <a:xfrm>
              <a:off x="396000" y="3146400"/>
              <a:ext cx="18273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rorrogação do B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1" name="Grupo 50"/>
          <p:cNvGrpSpPr/>
          <p:nvPr/>
        </p:nvGrpSpPr>
        <p:grpSpPr>
          <a:xfrm>
            <a:off x="176040" y="5229360"/>
            <a:ext cx="8643960" cy="998280"/>
            <a:chOff x="176040" y="5229360"/>
            <a:chExt cx="8643960" cy="998280"/>
          </a:xfrm>
        </p:grpSpPr>
        <p:pic>
          <p:nvPicPr>
            <p:cNvPr id="162" name="Retângulo 67" descr=""/>
            <p:cNvPicPr/>
            <p:nvPr/>
          </p:nvPicPr>
          <p:blipFill>
            <a:blip r:embed="rId4"/>
            <a:stretch/>
          </p:blipFill>
          <p:spPr>
            <a:xfrm>
              <a:off x="176040" y="5229360"/>
              <a:ext cx="864396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CustomShape 12"/>
            <p:cNvSpPr/>
            <p:nvPr/>
          </p:nvSpPr>
          <p:spPr>
            <a:xfrm>
              <a:off x="855720" y="5436000"/>
              <a:ext cx="7394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Seguridade Social ampliad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Saúde – Trabalho – Educação – Assistência Social  - Previdênci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upo 41"/>
          <p:cNvGrpSpPr/>
          <p:nvPr/>
        </p:nvGrpSpPr>
        <p:grpSpPr>
          <a:xfrm>
            <a:off x="3780000" y="1341360"/>
            <a:ext cx="1643040" cy="1868400"/>
            <a:chOff x="3780000" y="1341360"/>
            <a:chExt cx="1643040" cy="1868400"/>
          </a:xfrm>
        </p:grpSpPr>
        <p:pic>
          <p:nvPicPr>
            <p:cNvPr id="165" name="imgHvThumb" descr=""/>
            <p:cNvPicPr/>
            <p:nvPr/>
          </p:nvPicPr>
          <p:blipFill>
            <a:blip r:embed="rId5"/>
            <a:stretch/>
          </p:blipFill>
          <p:spPr>
            <a:xfrm>
              <a:off x="3974040" y="1341360"/>
              <a:ext cx="1449000" cy="13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"/>
            <p:cNvPicPr/>
            <p:nvPr/>
          </p:nvPicPr>
          <p:blipFill>
            <a:blip r:embed="rId6"/>
            <a:stretch/>
          </p:blipFill>
          <p:spPr>
            <a:xfrm>
              <a:off x="4202640" y="1989000"/>
              <a:ext cx="867960" cy="80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CustomShape 13"/>
            <p:cNvSpPr/>
            <p:nvPr/>
          </p:nvSpPr>
          <p:spPr>
            <a:xfrm>
              <a:off x="3780000" y="2765880"/>
              <a:ext cx="1619280" cy="4438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rmAutofit fontScale="91000"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quipe Multiprofission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" name="Grupo 40"/>
          <p:cNvGrpSpPr/>
          <p:nvPr/>
        </p:nvGrpSpPr>
        <p:grpSpPr>
          <a:xfrm>
            <a:off x="5796000" y="2637000"/>
            <a:ext cx="3168720" cy="587160"/>
            <a:chOff x="5796000" y="2637000"/>
            <a:chExt cx="3168720" cy="587160"/>
          </a:xfrm>
        </p:grpSpPr>
        <p:sp>
          <p:nvSpPr>
            <p:cNvPr id="169" name="CustomShape 3"/>
            <p:cNvSpPr/>
            <p:nvPr/>
          </p:nvSpPr>
          <p:spPr>
            <a:xfrm>
              <a:off x="5796000" y="2637000"/>
              <a:ext cx="3168720" cy="587160"/>
            </a:xfrm>
            <a:prstGeom prst="roundRect">
              <a:avLst>
                <a:gd name="adj" fmla="val 10000"/>
              </a:avLst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9560" rIns="45720" anchor="ctr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Reabilitação Profission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CustomShape 4"/>
            <p:cNvSpPr/>
            <p:nvPr/>
          </p:nvSpPr>
          <p:spPr>
            <a:xfrm>
              <a:off x="5796000" y="2637000"/>
              <a:ext cx="461880" cy="576720"/>
            </a:xfrm>
            <a:custGeom>
              <a:avLst/>
              <a:gdLst>
                <a:gd name="textAreaLeft" fmla="*/ 13320 w 461880"/>
                <a:gd name="textAreaRight" fmla="*/ 448560 w 461880"/>
                <a:gd name="textAreaTop" fmla="*/ 13320 h 576720"/>
                <a:gd name="textAreaBottom" fmla="*/ 563400 h 576720"/>
              </a:gdLst>
              <a:ahLst/>
              <a:rect l="textAreaLeft" t="textAreaTop" r="textAreaRight" b="textAreaBottom"/>
              <a:pathLst>
                <a:path w="21600" h="26966">
                  <a:moveTo>
                    <a:pt x="2160" y="0"/>
                  </a:moveTo>
                  <a:arcTo wR="2160" hR="2160" stAng="16200000" swAng="-5400000"/>
                  <a:lnTo>
                    <a:pt x="0" y="24806"/>
                  </a:lnTo>
                  <a:arcTo wR="2160" hR="2160" stAng="10800000" swAng="-5400000"/>
                  <a:lnTo>
                    <a:pt x="19440" y="26966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CustomShape 7"/>
          <p:cNvSpPr/>
          <p:nvPr/>
        </p:nvSpPr>
        <p:spPr>
          <a:xfrm>
            <a:off x="5867280" y="4365720"/>
            <a:ext cx="1944720" cy="585720"/>
          </a:xfrm>
          <a:prstGeom prst="roundRect">
            <a:avLst>
              <a:gd name="adj" fmla="val 10000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9560" rIns="4572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  <a:ea typeface="Tahoma"/>
              </a:rPr>
              <a:t>DC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5651640" y="177336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5"/>
          <p:cNvSpPr/>
          <p:nvPr/>
        </p:nvSpPr>
        <p:spPr>
          <a:xfrm rot="139200">
            <a:off x="8155080" y="2036880"/>
            <a:ext cx="72072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CustomShape 9"/>
          <p:cNvSpPr/>
          <p:nvPr/>
        </p:nvSpPr>
        <p:spPr>
          <a:xfrm>
            <a:off x="179280" y="692280"/>
            <a:ext cx="6747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 fontScale="93000"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valiação Por Equipe Multiprofiss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rticulação da Seguridade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Grupo 39"/>
          <p:cNvGrpSpPr/>
          <p:nvPr/>
        </p:nvGrpSpPr>
        <p:grpSpPr>
          <a:xfrm>
            <a:off x="4067280" y="3529080"/>
            <a:ext cx="1144440" cy="1555560"/>
            <a:chOff x="4067280" y="3529080"/>
            <a:chExt cx="1144440" cy="1555560"/>
          </a:xfrm>
        </p:grpSpPr>
        <p:sp>
          <p:nvSpPr>
            <p:cNvPr id="176" name="Retângulo de cantos arredondados 40"/>
            <p:cNvSpPr/>
            <p:nvPr/>
          </p:nvSpPr>
          <p:spPr>
            <a:xfrm>
              <a:off x="4067280" y="4543200"/>
              <a:ext cx="1001880" cy="5414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rm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03200"/>
                  <a:tab algn="l" pos="806400"/>
                  <a:tab algn="l" pos="120960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erito Médic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77" name="Picture 4" descr="C:\Users\samara.dias\AppData\Local\Microsoft\Windows\Temporary Internet Files\Content.IE5\EYHUKWCB\MC900433937[1].png"/>
            <p:cNvPicPr/>
            <p:nvPr/>
          </p:nvPicPr>
          <p:blipFill>
            <a:blip r:embed="rId8"/>
            <a:stretch/>
          </p:blipFill>
          <p:spPr>
            <a:xfrm>
              <a:off x="4089240" y="3529080"/>
              <a:ext cx="1122480" cy="99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CustomShape 26"/>
          <p:cNvSpPr/>
          <p:nvPr/>
        </p:nvSpPr>
        <p:spPr>
          <a:xfrm rot="18058200">
            <a:off x="3068640" y="3202920"/>
            <a:ext cx="230040" cy="1112760"/>
          </a:xfrm>
          <a:prstGeom prst="downArrow">
            <a:avLst>
              <a:gd name="adj1" fmla="val 50000"/>
              <a:gd name="adj2" fmla="val 241862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CustomShape 26"/>
          <p:cNvSpPr/>
          <p:nvPr/>
        </p:nvSpPr>
        <p:spPr>
          <a:xfrm rot="14514600">
            <a:off x="2997000" y="2339280"/>
            <a:ext cx="230040" cy="1112760"/>
          </a:xfrm>
          <a:prstGeom prst="downArrow">
            <a:avLst>
              <a:gd name="adj1" fmla="val 50000"/>
              <a:gd name="adj2" fmla="val 241862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1705680" y="6381720"/>
            <a:ext cx="61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spacho Decisório n° 4 DIRSAT/INSS, de 12/12/2014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aixaDeTexto 55"/>
          <p:cNvSpPr/>
          <p:nvPr/>
        </p:nvSpPr>
        <p:spPr>
          <a:xfrm>
            <a:off x="3963600" y="3198960"/>
            <a:ext cx="65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" name="Group 62"/>
          <p:cNvGrpSpPr/>
          <p:nvPr/>
        </p:nvGrpSpPr>
        <p:grpSpPr>
          <a:xfrm>
            <a:off x="250920" y="2205000"/>
            <a:ext cx="8892720" cy="4406760"/>
            <a:chOff x="250920" y="2205000"/>
            <a:chExt cx="8892720" cy="4406760"/>
          </a:xfrm>
        </p:grpSpPr>
        <p:grpSp>
          <p:nvGrpSpPr>
            <p:cNvPr id="183" name="Group 61"/>
            <p:cNvGrpSpPr/>
            <p:nvPr/>
          </p:nvGrpSpPr>
          <p:grpSpPr>
            <a:xfrm>
              <a:off x="5261040" y="4767120"/>
              <a:ext cx="2377080" cy="1844640"/>
              <a:chOff x="5261040" y="4767120"/>
              <a:chExt cx="2377080" cy="1844640"/>
            </a:xfrm>
          </p:grpSpPr>
          <p:sp>
            <p:nvSpPr>
              <p:cNvPr id="184" name="Retângulo 6"/>
              <p:cNvSpPr/>
              <p:nvPr/>
            </p:nvSpPr>
            <p:spPr>
              <a:xfrm>
                <a:off x="5821200" y="5487840"/>
                <a:ext cx="18169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CER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Retângulo 7"/>
              <p:cNvSpPr/>
              <p:nvPr/>
            </p:nvSpPr>
            <p:spPr>
              <a:xfrm>
                <a:off x="5821200" y="6151320"/>
                <a:ext cx="1816920" cy="46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RENAST/CERES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6" name="Group 60"/>
              <p:cNvGrpSpPr/>
              <p:nvPr/>
            </p:nvGrpSpPr>
            <p:grpSpPr>
              <a:xfrm>
                <a:off x="5261040" y="4767120"/>
                <a:ext cx="1190160" cy="863640"/>
                <a:chOff x="5261040" y="4767120"/>
                <a:chExt cx="1190160" cy="863640"/>
              </a:xfrm>
            </p:grpSpPr>
            <p:pic>
              <p:nvPicPr>
                <p:cNvPr id="187" name="Elipse 1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261040" y="4767120"/>
                  <a:ext cx="1190160" cy="86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Text Box 44"/>
                <p:cNvSpPr/>
                <p:nvPr/>
              </p:nvSpPr>
              <p:spPr>
                <a:xfrm>
                  <a:off x="5330160" y="4838400"/>
                  <a:ext cx="1049760" cy="46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2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pt-BR" sz="1400" spc="-1" strike="noStrike">
                      <a:solidFill>
                        <a:srgbClr val="ffffff"/>
                      </a:solidFill>
                      <a:latin typeface="Tahoma"/>
                      <a:ea typeface="Tahoma"/>
                    </a:rPr>
                    <a:t>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9" name="Grupo 53"/>
            <p:cNvGrpSpPr/>
            <p:nvPr/>
          </p:nvGrpSpPr>
          <p:grpSpPr>
            <a:xfrm>
              <a:off x="304560" y="4046400"/>
              <a:ext cx="2107440" cy="919080"/>
              <a:chOff x="304560" y="4046400"/>
              <a:chExt cx="2107440" cy="919080"/>
            </a:xfrm>
          </p:grpSpPr>
          <p:sp>
            <p:nvSpPr>
              <p:cNvPr id="190" name="Retângulo 20"/>
              <p:cNvSpPr/>
              <p:nvPr/>
            </p:nvSpPr>
            <p:spPr>
              <a:xfrm>
                <a:off x="304560" y="4539960"/>
                <a:ext cx="1750680" cy="42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PRONATEC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1" name="Elipse 41"/>
              <p:cNvGrpSpPr/>
              <p:nvPr/>
            </p:nvGrpSpPr>
            <p:grpSpPr>
              <a:xfrm>
                <a:off x="1425960" y="4046400"/>
                <a:ext cx="986040" cy="752040"/>
                <a:chOff x="1425960" y="4046400"/>
                <a:chExt cx="986040" cy="752040"/>
              </a:xfrm>
            </p:grpSpPr>
            <p:pic>
              <p:nvPicPr>
                <p:cNvPr id="192" name="Elipse 4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5960" y="4046400"/>
                  <a:ext cx="986040" cy="75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"/>
                <p:cNvSpPr/>
                <p:nvPr/>
              </p:nvSpPr>
              <p:spPr>
                <a:xfrm>
                  <a:off x="1617480" y="4202280"/>
                  <a:ext cx="59364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pt-BR" sz="1400" spc="-1" strike="noStrike">
                      <a:solidFill>
                        <a:srgbClr val="ffffff"/>
                      </a:solidFill>
                      <a:latin typeface="Tahoma"/>
                      <a:ea typeface="Tahoma"/>
                    </a:rPr>
                    <a:t>MEC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94" name="Grupo 48"/>
            <p:cNvGrpSpPr/>
            <p:nvPr/>
          </p:nvGrpSpPr>
          <p:grpSpPr>
            <a:xfrm>
              <a:off x="6381720" y="3974760"/>
              <a:ext cx="2397600" cy="1179720"/>
              <a:chOff x="6381720" y="3974760"/>
              <a:chExt cx="2397600" cy="1179720"/>
            </a:xfrm>
          </p:grpSpPr>
          <p:sp>
            <p:nvSpPr>
              <p:cNvPr id="195" name="Retângulo 24"/>
              <p:cNvSpPr/>
              <p:nvPr/>
            </p:nvSpPr>
            <p:spPr>
              <a:xfrm>
                <a:off x="7016040" y="4475880"/>
                <a:ext cx="1763280" cy="67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Programas, Serviços e Benefícios Socioassistenciai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6" name="Elipse 43"/>
              <p:cNvGrpSpPr/>
              <p:nvPr/>
            </p:nvGrpSpPr>
            <p:grpSpPr>
              <a:xfrm>
                <a:off x="6381720" y="3974760"/>
                <a:ext cx="994320" cy="763200"/>
                <a:chOff x="6381720" y="3974760"/>
                <a:chExt cx="994320" cy="763200"/>
              </a:xfrm>
            </p:grpSpPr>
            <p:pic>
              <p:nvPicPr>
                <p:cNvPr id="197" name="Elipse 4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81720" y="3974760"/>
                  <a:ext cx="994320" cy="76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6576120" y="4134240"/>
                  <a:ext cx="5986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pt-BR" sz="1400" spc="-1" strike="noStrike">
                      <a:solidFill>
                        <a:srgbClr val="ffffff"/>
                      </a:solidFill>
                      <a:latin typeface="Tahoma"/>
                      <a:ea typeface="Tahoma"/>
                    </a:rPr>
                    <a:t>MDS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99" name="Group 54"/>
            <p:cNvGrpSpPr/>
            <p:nvPr/>
          </p:nvGrpSpPr>
          <p:grpSpPr>
            <a:xfrm>
              <a:off x="2413800" y="4776480"/>
              <a:ext cx="2034360" cy="1834920"/>
              <a:chOff x="2413800" y="4776480"/>
              <a:chExt cx="2034360" cy="1834920"/>
            </a:xfrm>
          </p:grpSpPr>
          <p:sp>
            <p:nvSpPr>
              <p:cNvPr id="200" name="Retângulo 10"/>
              <p:cNvSpPr/>
              <p:nvPr/>
            </p:nvSpPr>
            <p:spPr>
              <a:xfrm>
                <a:off x="2633040" y="5495760"/>
                <a:ext cx="1815120" cy="46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 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Sistema Nacional de Emprego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Retângulo 11"/>
              <p:cNvSpPr/>
              <p:nvPr/>
            </p:nvSpPr>
            <p:spPr>
              <a:xfrm>
                <a:off x="2413800" y="6151320"/>
                <a:ext cx="2034360" cy="46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Inspeção do Trabalho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" name="Elipse 44"/>
              <p:cNvGrpSpPr/>
              <p:nvPr/>
            </p:nvGrpSpPr>
            <p:grpSpPr>
              <a:xfrm>
                <a:off x="3376440" y="4776480"/>
                <a:ext cx="1030320" cy="811800"/>
                <a:chOff x="3376440" y="4776480"/>
                <a:chExt cx="1030320" cy="811800"/>
              </a:xfrm>
            </p:grpSpPr>
            <p:pic>
              <p:nvPicPr>
                <p:cNvPr id="203" name="Elipse 4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76440" y="4776480"/>
                  <a:ext cx="1030320" cy="811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3578400" y="4946760"/>
                  <a:ext cx="620280" cy="4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pt-BR" sz="1400" spc="-1" strike="noStrike">
                      <a:solidFill>
                        <a:srgbClr val="ffffff"/>
                      </a:solidFill>
                      <a:latin typeface="Tahoma"/>
                      <a:ea typeface="Tahoma"/>
                    </a:rPr>
                    <a:t>M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5" name="CaixaDeTexto 54"/>
            <p:cNvSpPr/>
            <p:nvPr/>
          </p:nvSpPr>
          <p:spPr>
            <a:xfrm>
              <a:off x="3016800" y="2358720"/>
              <a:ext cx="29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Re)habilitação Integral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36"/>
            <p:cNvSpPr/>
            <p:nvPr/>
          </p:nvSpPr>
          <p:spPr>
            <a:xfrm>
              <a:off x="2649960" y="3030480"/>
              <a:ext cx="116100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37"/>
            <p:cNvSpPr/>
            <p:nvPr/>
          </p:nvSpPr>
          <p:spPr>
            <a:xfrm flipV="1">
              <a:off x="2649960" y="3546000"/>
              <a:ext cx="123480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38"/>
            <p:cNvSpPr/>
            <p:nvPr/>
          </p:nvSpPr>
          <p:spPr>
            <a:xfrm flipV="1">
              <a:off x="4975200" y="3055320"/>
              <a:ext cx="9446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39"/>
            <p:cNvSpPr/>
            <p:nvPr/>
          </p:nvSpPr>
          <p:spPr>
            <a:xfrm flipV="1">
              <a:off x="3885120" y="3806280"/>
              <a:ext cx="43524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40"/>
            <p:cNvSpPr/>
            <p:nvPr/>
          </p:nvSpPr>
          <p:spPr>
            <a:xfrm flipH="1" flipV="1">
              <a:off x="4696920" y="3884040"/>
              <a:ext cx="4906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41"/>
            <p:cNvSpPr/>
            <p:nvPr/>
          </p:nvSpPr>
          <p:spPr>
            <a:xfrm flipH="1" flipV="1">
              <a:off x="4975200" y="3568320"/>
              <a:ext cx="87192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42"/>
            <p:cNvSpPr/>
            <p:nvPr/>
          </p:nvSpPr>
          <p:spPr>
            <a:xfrm>
              <a:off x="7545960" y="2205000"/>
              <a:ext cx="1597680" cy="73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ahoma"/>
                </a:rPr>
                <a:t>Representações dos Empregados e Empregador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3" name="Group 59"/>
            <p:cNvGrpSpPr/>
            <p:nvPr/>
          </p:nvGrpSpPr>
          <p:grpSpPr>
            <a:xfrm>
              <a:off x="6199560" y="2319120"/>
              <a:ext cx="2883240" cy="1389240"/>
              <a:chOff x="6199560" y="2319120"/>
              <a:chExt cx="2883240" cy="1389240"/>
            </a:xfrm>
          </p:grpSpPr>
          <p:pic>
            <p:nvPicPr>
              <p:cNvPr id="214" name="Elipse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6199560" y="2319120"/>
                <a:ext cx="1191600" cy="88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Retângulo 32"/>
              <p:cNvSpPr/>
              <p:nvPr/>
            </p:nvSpPr>
            <p:spPr>
              <a:xfrm>
                <a:off x="6901560" y="3182760"/>
                <a:ext cx="2181240" cy="52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Ações e Programas que Garantem Direitos à PCD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Text Box 40"/>
              <p:cNvSpPr/>
              <p:nvPr/>
            </p:nvSpPr>
            <p:spPr>
              <a:xfrm>
                <a:off x="6480000" y="2390760"/>
                <a:ext cx="61740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2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DH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7" name="Group 53"/>
            <p:cNvGrpSpPr/>
            <p:nvPr/>
          </p:nvGrpSpPr>
          <p:grpSpPr>
            <a:xfrm>
              <a:off x="250920" y="2462040"/>
              <a:ext cx="2281680" cy="1049040"/>
              <a:chOff x="250920" y="2462040"/>
              <a:chExt cx="2281680" cy="1049040"/>
            </a:xfrm>
          </p:grpSpPr>
          <p:sp>
            <p:nvSpPr>
              <p:cNvPr id="218" name="Retângulo 16"/>
              <p:cNvSpPr/>
              <p:nvPr/>
            </p:nvSpPr>
            <p:spPr>
              <a:xfrm>
                <a:off x="250920" y="3047040"/>
                <a:ext cx="1809360" cy="46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  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Tecnologi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Assistiv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Elipse 42"/>
              <p:cNvGrpSpPr/>
              <p:nvPr/>
            </p:nvGrpSpPr>
            <p:grpSpPr>
              <a:xfrm>
                <a:off x="1431000" y="2462040"/>
                <a:ext cx="1101600" cy="816480"/>
                <a:chOff x="1431000" y="2462040"/>
                <a:chExt cx="1101600" cy="816480"/>
              </a:xfrm>
            </p:grpSpPr>
            <p:pic>
              <p:nvPicPr>
                <p:cNvPr id="220" name="Elipse 4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31000" y="2462040"/>
                  <a:ext cx="1101600" cy="81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1642680" y="2631960"/>
                  <a:ext cx="66996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pt-BR" sz="1400" spc="-1" strike="noStrike">
                      <a:solidFill>
                        <a:srgbClr val="ffffff"/>
                      </a:solidFill>
                      <a:latin typeface="Tahoma"/>
                      <a:ea typeface="Tahoma"/>
                    </a:rPr>
                    <a:t>MCTI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22" name="Group 63"/>
          <p:cNvGrpSpPr/>
          <p:nvPr/>
        </p:nvGrpSpPr>
        <p:grpSpPr>
          <a:xfrm>
            <a:off x="539640" y="692280"/>
            <a:ext cx="7993080" cy="1368360"/>
            <a:chOff x="539640" y="692280"/>
            <a:chExt cx="7993080" cy="1368360"/>
          </a:xfrm>
        </p:grpSpPr>
        <p:sp>
          <p:nvSpPr>
            <p:cNvPr id="223" name="Rectangle 9"/>
            <p:cNvSpPr/>
            <p:nvPr/>
          </p:nvSpPr>
          <p:spPr>
            <a:xfrm>
              <a:off x="1618920" y="822960"/>
              <a:ext cx="676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400" indent="19080">
                <a:tabLst>
                  <a:tab algn="l" pos="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Pactua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ç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ão com Setores P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ú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licos, Privados e Representa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ç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ões da Sociedade (União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Estados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Munic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pios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95400" indent="19080">
                <a:buClr>
                  <a:srgbClr val="990000"/>
                </a:buClr>
                <a:buFont typeface="Wingdings" charset="2"/>
                <a:buChar char=""/>
                <a:tabLst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omitês Locais Intersetoriai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95400" indent="19080">
                <a:buClr>
                  <a:srgbClr val="990000"/>
                </a:buClr>
                <a:buFont typeface="Wingdings" charset="2"/>
                <a:buChar char=""/>
                <a:tabLst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cordos de Cooperação Técnica e Convênios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24" name="Picture 10" descr="Pactuar"/>
            <p:cNvPicPr/>
            <p:nvPr/>
          </p:nvPicPr>
          <p:blipFill>
            <a:blip r:embed="rId7"/>
            <a:stretch/>
          </p:blipFill>
          <p:spPr>
            <a:xfrm>
              <a:off x="682200" y="959400"/>
              <a:ext cx="863640" cy="8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AutoShape 11"/>
            <p:cNvSpPr/>
            <p:nvPr/>
          </p:nvSpPr>
          <p:spPr>
            <a:xfrm>
              <a:off x="539640" y="692280"/>
              <a:ext cx="7993080" cy="1368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7640" y="620280"/>
            <a:ext cx="88549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EI nº 13.135, de 17 de junho 201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rt. 60. § 5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utoriza o INSS, nos casos de impossibilidade de realização de perícias médicas... realizar convênios, termos de execução descentralizada, acordos de cooperação técnica... para realização de perícia médica, por delegação ou simples cooperação técn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 - órgãos e entidades públicos ou que integrem o Sistema Único de Saú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4" descr="roda1.jpg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7"/>
          <p:cNvSpPr/>
          <p:nvPr/>
        </p:nvSpPr>
        <p:spPr>
          <a:xfrm>
            <a:off x="250920" y="6206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060"/>
                </a:solidFill>
                <a:latin typeface="Tahoma"/>
                <a:ea typeface="Tahoma"/>
              </a:rPr>
              <a:t>QUANTIDADE DE CONTRIBUINTES PESSOA  FÍSICA E QUANTIDADE DE BENEFÍCIOS PREVIDENCIÁRIOS REQUERIDOS E CONCEDIDOS  2007-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Gráfico 8" descr=""/>
          <p:cNvPicPr/>
          <p:nvPr/>
        </p:nvPicPr>
        <p:blipFill>
          <a:blip r:embed="rId2"/>
          <a:stretch/>
        </p:blipFill>
        <p:spPr>
          <a:xfrm>
            <a:off x="293760" y="1438200"/>
            <a:ext cx="83818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1440000" y="404640"/>
            <a:ext cx="6480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ícia Médica Previdenciá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85800" y="1773360"/>
            <a:ext cx="777096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289440" indent="-289440" algn="just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valiação da incapacidade laborativ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gravos e intercorrências restritivas ao bem estar físico, psíquico e social decorrente da patologia de base, para fins de concessão de benefícios por incapaci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9440" indent="-289440" algn="just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e processual:IR,Aposentadoria Especial,entre out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440" indent="-289440" algn="just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liação de risco ambiental, AA, Aposentadoria da pessoa com deficiência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9440" indent="-289440" algn="just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01680"/>
                <a:tab algn="l" pos="749160"/>
                <a:tab algn="l" pos="1198440"/>
                <a:tab algn="l" pos="1647720"/>
                <a:tab algn="l" pos="2097000"/>
                <a:tab algn="l" pos="2546280"/>
                <a:tab algn="l" pos="2995560"/>
                <a:tab algn="l" pos="3444840"/>
                <a:tab algn="l" pos="3894120"/>
                <a:tab algn="l" pos="4343400"/>
                <a:tab algn="l" pos="4792680"/>
                <a:tab algn="l" pos="5241960"/>
                <a:tab algn="l" pos="5691240"/>
                <a:tab algn="l" pos="6140520"/>
                <a:tab algn="l" pos="6589800"/>
                <a:tab algn="l" pos="7039080"/>
                <a:tab algn="l" pos="7488360"/>
                <a:tab algn="l" pos="7937640"/>
                <a:tab algn="l" pos="8386920"/>
                <a:tab algn="l" pos="8836200"/>
                <a:tab algn="l" pos="9285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1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Gráfico 1"/>
          <p:cNvGraphicFramePr/>
          <p:nvPr/>
        </p:nvGraphicFramePr>
        <p:xfrm>
          <a:off x="-50760" y="641520"/>
          <a:ext cx="9066240" cy="5689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Gráfico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0760" y="641520"/>
                    <a:ext cx="906624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CaixaDeTexto 2"/>
          <p:cNvSpPr/>
          <p:nvPr/>
        </p:nvSpPr>
        <p:spPr>
          <a:xfrm>
            <a:off x="5364000" y="6381720"/>
            <a:ext cx="36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" spc="-1" strike="noStrike">
                <a:solidFill>
                  <a:srgbClr val="000000"/>
                </a:solidFill>
                <a:latin typeface="Tahoma"/>
                <a:ea typeface="Tahoma"/>
              </a:rPr>
              <a:t>FONTE: SIGM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6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2"/>
          <p:cNvSpPr/>
          <p:nvPr/>
        </p:nvSpPr>
        <p:spPr>
          <a:xfrm>
            <a:off x="5364000" y="6526080"/>
            <a:ext cx="36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" spc="-1" strike="noStrike">
                <a:solidFill>
                  <a:srgbClr val="000000"/>
                </a:solidFill>
                <a:latin typeface="Tahoma"/>
                <a:ea typeface="Tahoma"/>
              </a:rPr>
              <a:t>FONTE: SIGM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Gráfico 5" descr=""/>
          <p:cNvPicPr/>
          <p:nvPr/>
        </p:nvPicPr>
        <p:blipFill>
          <a:blip r:embed="rId3"/>
          <a:stretch/>
        </p:blipFill>
        <p:spPr>
          <a:xfrm>
            <a:off x="682560" y="907920"/>
            <a:ext cx="7888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0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1" name="CaixaDeTexto 2"/>
          <p:cNvSpPr/>
          <p:nvPr/>
        </p:nvSpPr>
        <p:spPr>
          <a:xfrm>
            <a:off x="5364000" y="6642000"/>
            <a:ext cx="36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" spc="-1" strike="noStrike">
                <a:solidFill>
                  <a:srgbClr val="000000"/>
                </a:solidFill>
                <a:latin typeface="Tahoma"/>
                <a:ea typeface="Tahoma"/>
              </a:rPr>
              <a:t>FONTE: SIGM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Gráfico 1" descr=""/>
          <p:cNvPicPr/>
          <p:nvPr/>
        </p:nvPicPr>
        <p:blipFill>
          <a:blip r:embed="rId3"/>
          <a:stretch/>
        </p:blipFill>
        <p:spPr>
          <a:xfrm>
            <a:off x="-50760" y="785880"/>
            <a:ext cx="90662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Gráfico 8" descr=""/>
          <p:cNvPicPr/>
          <p:nvPr/>
        </p:nvPicPr>
        <p:blipFill>
          <a:blip r:embed="rId1"/>
          <a:stretch/>
        </p:blipFill>
        <p:spPr>
          <a:xfrm>
            <a:off x="-324000" y="1914480"/>
            <a:ext cx="5329440" cy="3675240"/>
          </a:xfrm>
          <a:prstGeom prst="rect">
            <a:avLst/>
          </a:prstGeom>
          <a:ln w="0">
            <a:noFill/>
          </a:ln>
        </p:spPr>
      </p:pic>
      <p:pic>
        <p:nvPicPr>
          <p:cNvPr id="74" name="Imagem 3" descr="top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5" name="Imagem 4" descr="roda1.jpg"/>
          <p:cNvPicPr/>
          <p:nvPr/>
        </p:nvPicPr>
        <p:blipFill>
          <a:blip r:embed="rId3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6" name="CaixaDeTexto 6"/>
          <p:cNvSpPr/>
          <p:nvPr/>
        </p:nvSpPr>
        <p:spPr>
          <a:xfrm>
            <a:off x="6407280" y="652464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000000"/>
                </a:solidFill>
                <a:latin typeface="Tahoma"/>
                <a:ea typeface="Tahoma"/>
              </a:rPr>
              <a:t>FONTE: SIGM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CaixaDeTexto 9"/>
          <p:cNvSpPr/>
          <p:nvPr/>
        </p:nvSpPr>
        <p:spPr>
          <a:xfrm>
            <a:off x="1835280" y="3068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eta Plano de Ação:30 d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003640" y="1125360"/>
          <a:ext cx="2881440" cy="5328000"/>
        </p:xfrm>
        <a:graphic>
          <a:graphicData uri="http://schemas.openxmlformats.org/drawingml/2006/table">
            <a:tbl>
              <a:tblPr/>
              <a:tblGrid>
                <a:gridCol w="1420920"/>
                <a:gridCol w="1460520"/>
              </a:tblGrid>
              <a:tr h="53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ua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cei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mperatr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rto Vel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eres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racaj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l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ntaré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rab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strito Fed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ci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ob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j - N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uiab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n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rto Ale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tângulo 9"/>
          <p:cNvSpPr/>
          <p:nvPr/>
        </p:nvSpPr>
        <p:spPr>
          <a:xfrm>
            <a:off x="684360" y="69228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Tahoma"/>
                <a:ea typeface="Tahoma"/>
              </a:rPr>
              <a:t>TMEA-PM das Gerências Executiv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4" descr="roda1.jpg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1" name="CaixaDeTexto 7"/>
          <p:cNvSpPr/>
          <p:nvPr/>
        </p:nvSpPr>
        <p:spPr>
          <a:xfrm>
            <a:off x="7164360" y="65246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Fonte:SIGM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773360"/>
          <a:ext cx="8317080" cy="4680000"/>
        </p:xfrm>
        <a:graphic>
          <a:graphicData uri="http://schemas.openxmlformats.org/drawingml/2006/table">
            <a:tbl>
              <a:tblPr/>
              <a:tblGrid>
                <a:gridCol w="4148280"/>
                <a:gridCol w="1231920"/>
                <a:gridCol w="1082520"/>
                <a:gridCol w="1004760"/>
                <a:gridCol w="849600"/>
              </a:tblGrid>
              <a:tr h="1143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2.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5.5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9.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7.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1.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7.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.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6.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6.6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2.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9.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8.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5.7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2.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4.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2.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UPERINTENDÊNCIA REGIONAL NORTE/CENTRO-O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2.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6.8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.6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5.8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08.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4.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7.7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20.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CaixaDeTexto 2"/>
          <p:cNvSpPr/>
          <p:nvPr/>
        </p:nvSpPr>
        <p:spPr>
          <a:xfrm>
            <a:off x="755640" y="836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Tahoma"/>
                <a:ea typeface="Arial"/>
              </a:rPr>
              <a:t>TOTAL DE SEGURADOS ESPERANDO ATENDIMENTO DA PERÍCIA MÉDICA EM 24.06.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ahoma"/>
              </a:rPr>
              <a:t>Benefícios por Incapacidade de Longa Dur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784520"/>
          <a:ext cx="8229600" cy="48733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8556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uração do BI de Longa Dur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Quant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c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cessão decorrente de decisão judi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 judi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cessão decorrente de decisão judi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 judi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 a 5 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8.2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0.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9.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 a 10 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0.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5.8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65.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 a 15 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.6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4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.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 a 20 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cima de 20 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7.0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6.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73.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b0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3:33:25Z</dcterms:created>
  <dc:creator>Cicero Sampaio Freitas Cordeiro Costa - INSSDF</dc:creator>
  <dc:description/>
  <dc:language>en-US</dc:language>
  <cp:lastModifiedBy>Silvana do Socorro Machado Rodrigues - MPS</cp:lastModifiedBy>
  <cp:lastPrinted>2014-07-18T17:07:29Z</cp:lastPrinted>
  <dcterms:modified xsi:type="dcterms:W3CDTF">2015-07-23T11:55:55Z</dcterms:modified>
  <cp:revision>650</cp:revision>
  <dc:subject/>
  <dc:title>PLANO DE AÇÃO 2013</dc:title>
</cp:coreProperties>
</file>